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648-73A1-47A7-9B98-356121F6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F8B-61C9-4CB2-8BE1-83E3B4C5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915-3639-43E3-8272-81359ECB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756-70F1-4F38-946B-BE4DE48E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48C-CDF7-44CB-8ABB-4CFEC22E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722-10E7-4C8E-A370-CDFB4DCA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135-1D41-4CD7-9ECF-8B77066F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C61-FA4C-4734-B29F-2AEAE4AD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310-0374-45F2-8B81-984C6C3D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C70-8BE8-4108-829C-C01B0DA7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0B4-8EB5-4BB2-B6AE-D9B018BA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CDB-CA84-42FC-9972-F5AEF17A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F3F2-DA35-4097-BB64-D04A85F05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randomrome.web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a4fe"/>
            </a:gs>
            <a:gs pos="50000">
              <a:srgbClr val="8506e4"/>
            </a:gs>
            <a:gs pos="100000">
              <a:srgbClr val="cfa4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5ff"/>
                </a:solidFill>
                <a:latin typeface="Matisse ITC"/>
              </a:rPr>
              <a:t>Roman 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00e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5ff"/>
                </a:solidFill>
                <a:latin typeface="Matisse ITC"/>
              </a:rPr>
              <a:t>Colos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05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205ff"/>
                </a:solidFill>
                <a:latin typeface="Matisse ITC"/>
              </a:rPr>
              <a:t>The Colosseum was a place where Gladiators, criminals, slaves, or prisoners would fight to the death, and they were actually meant to teach Romans how to fight in times of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25ff"/>
            </a:gs>
            <a:gs pos="100000">
              <a:srgbClr val="3b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5ff"/>
                </a:solidFill>
                <a:latin typeface="Matisse ITC"/>
              </a:rPr>
              <a:t>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05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05ff"/>
                </a:solidFill>
                <a:latin typeface="Matisse ITC"/>
              </a:rPr>
              <a:t>The Theatre was a place where Romans came to watch plays. They often wanted to see their favorite actors, not the actual play. If the play had a man die, they would replace the actor at the last minute and kill him, usually a cri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5ff"/>
                </a:solidFill>
                <a:latin typeface="Matisse ITC"/>
              </a:rPr>
              <a:t>Circus Maxi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8205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05ff"/>
                </a:solidFill>
                <a:latin typeface="Matisse ITC"/>
              </a:rPr>
              <a:t>Circus maximus was a large racetrack where people held chariot races, races on two or four wheel carts pulled by horses. The charioteers would usually end up dying.</a:t>
            </a:r>
            <a:r>
              <a:rPr b="0" lang="en-US" sz="3200" spc="-1" strike="noStrike">
                <a:solidFill>
                  <a:srgbClr val="8205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7600" y="533520"/>
            <a:ext cx="2286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5ff"/>
                </a:solidFill>
                <a:latin typeface="Matisse ITC"/>
              </a:rPr>
              <a:t>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8205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05ff"/>
                </a:solidFill>
                <a:latin typeface="Matisse ITC"/>
              </a:rPr>
              <a:t>The forum was a public meeting place where people would hold public meetings, talk, and pretty much just meet with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5ff"/>
                </a:solidFill>
                <a:latin typeface="Matisse ITC"/>
              </a:rPr>
              <a:t>Thank you for watch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5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05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05ff"/>
                </a:solidFill>
                <a:latin typeface="Matisse ITC"/>
              </a:rPr>
              <a:t>Made exclusively for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Matisse ITC"/>
                <a:hlinkClick r:id="rId2"/>
              </a:rPr>
              <a:t>www.randomrome.webs.com</a:t>
            </a:r>
            <a:r>
              <a:rPr b="0" lang="en-US" sz="3200" spc="-1" strike="noStrike" u="sng">
                <a:solidFill>
                  <a:srgbClr val="8205ff"/>
                </a:solidFill>
                <a:uFillTx/>
                <a:latin typeface="Matisse ITC"/>
              </a:rPr>
              <a:t>. STEAL IT AND DI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2:00:38Z</dcterms:created>
  <dc:creator>Mark Evangelista</dc:creator>
  <dc:description/>
  <dc:language>en-US</dc:language>
  <cp:lastModifiedBy>Mark Evangelista</cp:lastModifiedBy>
  <dcterms:modified xsi:type="dcterms:W3CDTF">2009-12-15T23:23:39Z</dcterms:modified>
  <cp:revision>4</cp:revision>
  <dc:subject/>
  <dc:title>Roman Entertainment</dc:title>
</cp:coreProperties>
</file>