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E60B-E105-4B50-992B-519052DD6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9740-546B-47B0-9F24-019D2241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A2CD-717F-4FF7-82AE-781B16C81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4603-F7FE-4A6B-9DB6-202C22AF6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1B2D-18D3-4C60-853C-35B9F835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2BB9-6CC2-461C-AC01-19C5781B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83E6-A870-4506-8E77-7A5A033C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6C1D-0711-4D44-88EE-CEA9710A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F589-7E49-4B7D-8069-40426016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925A-0B07-4426-AB14-A7048DC1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34BD-7FFE-48BF-A207-EAB1A2D7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7055-B923-4EE8-9C6B-30EE6E07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252C-87FA-4E8D-8EA3-104A6EF8D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hyperlink" Target="http://www.randomrome.webs.com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a4fe"/>
            </a:gs>
            <a:gs pos="50000">
              <a:srgbClr val="8506e4"/>
            </a:gs>
            <a:gs pos="100000">
              <a:srgbClr val="cfa4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05ff"/>
                </a:solidFill>
                <a:latin typeface="Matisse ITC"/>
              </a:rPr>
              <a:t>Roman Entertai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00e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05ff"/>
                </a:solidFill>
                <a:latin typeface="Matisse ITC"/>
              </a:rPr>
              <a:t>Colosse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2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05ff"/>
              </a:buClr>
              <a:buFont typeface="Matiss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205ff"/>
                </a:solidFill>
                <a:latin typeface="Matisse ITC"/>
              </a:rPr>
              <a:t>The Colosseum was a place where Gladiators, criminals, slaves, or prisoners would fight to the death, and they were actually meant to teach Romans how to fight in times of w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25ff"/>
            </a:gs>
            <a:gs pos="100000">
              <a:srgbClr val="3b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05ff"/>
                </a:solidFill>
                <a:latin typeface="Matisse ITC"/>
              </a:rPr>
              <a:t>Thea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4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05ff"/>
              </a:buClr>
              <a:buFont typeface="Matiss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205ff"/>
                </a:solidFill>
                <a:latin typeface="Matisse ITC"/>
              </a:rPr>
              <a:t>The Theatre was a place where Romans came to watch plays. They often wanted to see their favorite actors, not the actual play. If the play had a man die, they would replace the actor at the last minute and kill him, usually a crim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5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05ff"/>
                </a:solidFill>
                <a:latin typeface="Matisse ITC"/>
              </a:rPr>
              <a:t>Circus Maxi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8205ff"/>
              </a:buClr>
              <a:buFont typeface="Matiss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205ff"/>
                </a:solidFill>
                <a:latin typeface="Matisse ITC"/>
              </a:rPr>
              <a:t>Circus maximus was a large racetrack where people held chariot races, races on two or four wheel carts pulled by horses. The charioteers would usually end up dying.</a:t>
            </a:r>
            <a:r>
              <a:rPr b="0" lang="en-US" sz="3200" spc="-1" strike="noStrike">
                <a:solidFill>
                  <a:srgbClr val="8205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57600" y="533520"/>
            <a:ext cx="2286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05ff"/>
                </a:solidFill>
                <a:latin typeface="Matisse ITC"/>
              </a:rPr>
              <a:t>Fo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152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8205ff"/>
              </a:buClr>
              <a:buFont typeface="Matiss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205ff"/>
                </a:solidFill>
                <a:latin typeface="Matisse ITC"/>
              </a:rPr>
              <a:t>The forum was a public meeting place where people would hold public meetings, talk, and pretty much just meet with each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05ff"/>
                </a:solidFill>
                <a:latin typeface="Matisse ITC"/>
              </a:rPr>
              <a:t>Thank you for watchin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15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05ff"/>
              </a:buClr>
              <a:buFont typeface="Matiss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205ff"/>
                </a:solidFill>
                <a:latin typeface="Matisse ITC"/>
              </a:rPr>
              <a:t>Made exclusively for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Matisse ITC"/>
                <a:hlinkClick r:id="rId2"/>
              </a:rPr>
              <a:t>www.randomrome.webs.com</a:t>
            </a:r>
            <a:r>
              <a:rPr b="0" lang="en-US" sz="3200" spc="-1" strike="noStrike" u="sng">
                <a:solidFill>
                  <a:srgbClr val="8205ff"/>
                </a:solidFill>
                <a:uFillTx/>
                <a:latin typeface="Matisse ITC"/>
              </a:rPr>
              <a:t>. STEAL IT AND DIE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22:00:38Z</dcterms:created>
  <dc:creator>Mark Evangelista</dc:creator>
  <dc:description/>
  <dc:language>en-US</dc:language>
  <cp:lastModifiedBy>Mark Evangelista</cp:lastModifiedBy>
  <dcterms:modified xsi:type="dcterms:W3CDTF">2009-12-15T23:23:39Z</dcterms:modified>
  <cp:revision>4</cp:revision>
  <dc:subject/>
  <dc:title>Roman Entertainment</dc:title>
</cp:coreProperties>
</file>